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71146"/>
        <c:axId val="26730269"/>
      </c:barChart>
      <c:catAx>
        <c:axId val="33871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30269"/>
        <c:crosses val="autoZero"/>
        <c:auto val="1"/>
        <c:lblAlgn val="ctr"/>
        <c:lblOffset val="100"/>
        <c:noMultiLvlLbl val="0"/>
      </c:catAx>
      <c:valAx>
        <c:axId val="26730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71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C98-3BA7-4809-B40A-3E1A607B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C67-7BD5-451F-8312-C376D8A7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73C-537A-493F-829B-B958EA48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DFA-B742-430D-A90C-43E15BCB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C1B5-1B61-4E7C-AF06-40881F32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74E-7787-4676-BE7A-1F2D783A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8B5-C772-4B20-808D-4E37F5B7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481-A8AC-433E-BD03-5167EC9D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989-0B31-43F2-B0C1-110371F6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B37-3CD5-48FB-AF6D-57523BF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D87-5F3F-4BD3-A822-B30B8C4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B35-5551-4CF3-ABCF-0B6271AD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B1D44-B238-4463-A2CF-1BB0EAC3AF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