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23039"/>
        <c:axId val="92843459"/>
      </c:barChart>
      <c:catAx>
        <c:axId val="29523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43459"/>
        <c:crosses val="autoZero"/>
        <c:auto val="1"/>
        <c:lblAlgn val="ctr"/>
        <c:lblOffset val="100"/>
        <c:noMultiLvlLbl val="0"/>
      </c:catAx>
      <c:valAx>
        <c:axId val="92843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23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65B-2957-4E63-B079-357D8374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8D2-6768-498B-B043-5F719F6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ED5-5764-474E-80FA-F60A31D2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387-6141-47F9-98A8-4D52A35C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0B4-D765-4E51-8CAC-937C6F0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9FB-5730-4946-BDC6-90D9DF5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679-34DE-4020-A2A8-04A018F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55C-E015-4586-A90C-B6AC13D1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B1C-9FAD-483B-9BB9-03CC86B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955-FB3C-4E2C-B9E9-129A750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F3B-6E40-4E24-BBDE-1F661C9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5EF-597C-4D2D-8986-3D32FAD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3459A-97BE-4661-A7CF-868F50C430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