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481593"/>
        <c:axId val="69861059"/>
      </c:barChart>
      <c:catAx>
        <c:axId val="114815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861059"/>
        <c:crosses val="autoZero"/>
        <c:auto val="1"/>
        <c:lblAlgn val="ctr"/>
        <c:lblOffset val="100"/>
        <c:noMultiLvlLbl val="0"/>
      </c:catAx>
      <c:valAx>
        <c:axId val="698610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4815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59A2-7D4E-4DA4-82F2-B6EF7678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DE9F-F24E-4EBC-AC9B-44D2E78B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E720-A14A-446D-8868-6036A2ED1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1E9D-31D9-4575-B08C-FE79E66DE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614F-39AD-462F-81CE-1EB29B23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E4E0-2E34-4DB2-BF72-C0F86BAE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0391-F988-40BC-A7AE-75BE7844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4DCD-8A41-47D5-9EBA-685A3F2D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C577-1F21-4D50-82A1-9A7F2B5F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4463-F83E-47B2-880A-74DD8567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0B85-F625-4D29-978D-15C307EE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3C0E-F17F-4822-8E81-5139F1BA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E21E4-D315-449B-8F5F-E18EB1EAEC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