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3783"/>
        <c:axId val="23655306"/>
      </c:barChart>
      <c:catAx>
        <c:axId val="60693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55306"/>
        <c:crosses val="autoZero"/>
        <c:auto val="1"/>
        <c:lblAlgn val="ctr"/>
        <c:lblOffset val="100"/>
        <c:noMultiLvlLbl val="0"/>
      </c:catAx>
      <c:valAx>
        <c:axId val="2365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3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8DB-9F39-472B-BEA0-D2771145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D83-AEB2-4AD2-8D0C-75FF874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2EB-67E4-4B86-BCAE-EBB5DA4A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A5C-B4E6-4156-8C09-FF7CA8DD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EB2-CF86-462C-A32E-44ED26E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98B-4ECC-4266-95EE-4E13094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980-6951-483C-ADEE-DAD2FBB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8A0-C5A7-4E04-A447-EB86A8DA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494-354F-490A-8AA7-003C6CDC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60D-B32A-48E0-96A5-DF6B442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736-1133-4A99-94DE-BB63310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E65-7374-435D-8E2F-D6240D1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50E78-0D2A-4D6A-803A-02EAED6FC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