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02412"/>
        <c:axId val="45109195"/>
      </c:barChart>
      <c:catAx>
        <c:axId val="84702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09195"/>
        <c:crosses val="autoZero"/>
        <c:auto val="1"/>
        <c:lblAlgn val="ctr"/>
        <c:lblOffset val="100"/>
        <c:noMultiLvlLbl val="0"/>
      </c:catAx>
      <c:valAx>
        <c:axId val="45109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02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0A6-2C66-4F8D-9FC0-3CD1B53B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ECC-C72C-42E9-8954-E63C150D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021-BC64-4188-9CB1-50B3C08A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72A-ABE2-4A83-8548-352369C5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C98-F745-41C3-B68E-08ED44F0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5CE-4B3A-4B79-A6D5-58F13B5F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DD7-FF29-426C-8130-60774B59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721-B458-40EB-9391-873ADB47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BBE-3632-4C5B-8586-9810C981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CA6-8D95-4B02-90F4-680E9C1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41A-5132-4BCD-BD8F-BF0A9139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FF0-B095-42B0-8EA4-87CFBBA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11DAA-3650-48E0-9063-5965AE2132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