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6143"/>
        <c:axId val="21298782"/>
      </c:barChart>
      <c:catAx>
        <c:axId val="12176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98782"/>
        <c:crosses val="autoZero"/>
        <c:auto val="1"/>
        <c:lblAlgn val="ctr"/>
        <c:lblOffset val="100"/>
        <c:noMultiLvlLbl val="0"/>
      </c:catAx>
      <c:valAx>
        <c:axId val="21298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6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353-CAA7-492D-B9DB-68ABEC2F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FAC-BC6F-4AFB-94FB-9F2E2A8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FF9-8D03-4103-89F4-4624A217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543-2352-4CBE-88E7-CA66D7B1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374-75D7-4412-BF66-D32B30B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0D9-C4E1-4153-9DB4-9981B23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3E3-7A01-4406-9E2A-C2062EF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622-759F-4AFF-814F-55D1F48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4C2-B536-4AF0-9C7A-1BDF86C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2A1-8FEB-4799-AB00-A5253EF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AC7-F7EA-4D88-9AA4-DC4C6B5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280-95DF-4522-9E81-F02635F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18691-2A2C-45B8-AE19-1CC32C44E6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