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00800"/>
        <c:axId val="85575737"/>
      </c:barChart>
      <c:catAx>
        <c:axId val="35000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75737"/>
        <c:crosses val="autoZero"/>
        <c:auto val="1"/>
        <c:lblAlgn val="ctr"/>
        <c:lblOffset val="100"/>
        <c:noMultiLvlLbl val="0"/>
      </c:catAx>
      <c:valAx>
        <c:axId val="85575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00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9DA-3A0B-48EE-B606-3A89E9B4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C61-8E96-45A0-9871-CD89B5BE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F66-29BF-4F7C-9051-1CF1AEEF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5D9-23D1-47C7-BCAC-A4331568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A0D-688A-4ECB-9545-A3B3BD28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1B2-F630-483C-B707-326E0589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84B-25FF-4C5D-AC18-20EF831B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C33-F24B-4B15-B273-00418F50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198-1B07-4081-8FB0-46E9AE84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4E25-B58F-459B-BE6D-BF424390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9E4-26B2-4F3E-89CA-DF8F348D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3E8-C44C-45F1-BEBA-645C7AE0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F4BB5-B801-4F00-BB47-B42305646B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