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16495"/>
        <c:axId val="48603305"/>
      </c:barChart>
      <c:catAx>
        <c:axId val="97616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03305"/>
        <c:crosses val="autoZero"/>
        <c:auto val="1"/>
        <c:lblAlgn val="ctr"/>
        <c:lblOffset val="100"/>
        <c:noMultiLvlLbl val="0"/>
      </c:catAx>
      <c:valAx>
        <c:axId val="48603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6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F25-7D2E-4B0F-BC84-AAB51B3C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536-5A6C-459D-9857-9E4AD111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A6F-D1F4-4669-A9E8-154B452D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B3A-F851-4A94-BAD3-8AC07333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C7D-CAB5-4587-B2B5-A59CD9B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EFB-D949-45AB-8120-E24158C1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B23-2002-499C-990D-A4E89266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BA2-2A33-4B0E-8D75-98B27C36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1E0-B948-4931-845E-9A92BE5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F1F-B15F-4C1F-83A7-70F97D9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E7D-F7D2-464D-BC37-FF647E4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B80-97A9-4467-9EBA-E315B09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73DEF-0DFD-4769-B4E3-52E2EE4B9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