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80334"/>
        <c:axId val="56986536"/>
      </c:barChart>
      <c:catAx>
        <c:axId val="731803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86536"/>
        <c:crosses val="autoZero"/>
        <c:auto val="1"/>
        <c:lblAlgn val="ctr"/>
        <c:lblOffset val="100"/>
        <c:noMultiLvlLbl val="0"/>
      </c:catAx>
      <c:valAx>
        <c:axId val="569865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803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A2D7-69CE-4C30-83F5-B0A8A5C3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53BF-0D4A-4A72-916A-D70D4EEC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CA97-2471-44E5-8E28-AB5BE81AB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6C5C-04AE-4C97-AF15-51EC62B6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E005-06D2-49F4-AF84-E7B1A2DC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E865-818B-4EEA-A275-D31187DF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5116-F794-4383-9BBC-1B9A9E4B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7EC5-D74A-498E-99B2-B352A94D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9B12-6A3E-4C7D-A166-45FB9C7C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F62F-66B2-414A-BD90-B476D9E1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1105-27D8-4A2D-AD79-452D6063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CE77-A894-41A4-840C-8D0C44B8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7C6B6-1557-444E-AF79-83636B9A6F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