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635426"/>
        <c:axId val="99889651"/>
      </c:barChart>
      <c:catAx>
        <c:axId val="66635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89651"/>
        <c:crosses val="autoZero"/>
        <c:auto val="1"/>
        <c:lblAlgn val="ctr"/>
        <c:lblOffset val="100"/>
        <c:noMultiLvlLbl val="0"/>
      </c:catAx>
      <c:valAx>
        <c:axId val="99889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35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A804-F6D8-4502-8455-FB241683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6A7A-A9D3-4B65-8765-CC683222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6C22-86B7-4754-A6FB-0CF86BB8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7F5-C616-435A-864E-F74770E6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28D2-B2D5-4AF4-9602-3F25F587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7519-32CD-4CE7-95FF-CE02DFBD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FF4-7D64-42F0-866C-0BBC0941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46E9-0455-4A95-9F06-78933BA3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3186-4EF6-4427-842F-ACA7574D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BEF0-EB77-4002-8C76-B3892F7E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CC8C-B049-4E88-AF31-3D391FF4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7CA0-2850-4BA0-AB0D-0FE77A36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40AC0-F6C5-4FCB-AFF4-678CC55603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