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44660"/>
        <c:axId val="50115709"/>
      </c:barChart>
      <c:catAx>
        <c:axId val="83944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5709"/>
        <c:crosses val="autoZero"/>
        <c:auto val="1"/>
        <c:lblAlgn val="ctr"/>
        <c:lblOffset val="100"/>
        <c:noMultiLvlLbl val="0"/>
      </c:catAx>
      <c:valAx>
        <c:axId val="50115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4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540-89E0-4EC0-9B45-CB0C2C51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A10-4AB3-42D4-A445-38C9AC43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992-E192-4CDF-807A-4C9FEB14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CFC-0472-4F3B-8296-EC5BE167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AF5-0FD9-41D8-9E91-D23BE02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E50-6EAA-48EA-BF28-F776A13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F24-2901-47CD-94AC-96CDAFB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529-C194-4A09-A5B3-12ECE62F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3D0-BA45-4B0C-A199-F1FBC0E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2D6-F283-4874-9907-FCBF3FD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467-3436-47BB-9095-DEB7FF2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B42-9E1B-4B3F-84B7-1664A057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70E14-3E88-4CEB-8683-389C65DE05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